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0F1-13BB-4F86-A852-CC0D85A2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78E-5A28-4899-BC29-D7DFB2C5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CE7-4C07-49A8-9202-8565D5A3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868-38A4-48C0-9240-8AF9533D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7CC-4692-4C9C-9F9B-F06BDD0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6DC-2789-423B-B9BE-DFCCAD3C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41F-6FC8-4818-9784-92F8FE96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B25-F6EA-442E-B715-262FB985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A4F-EE7B-4BE1-8DDD-00598036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A4F-8F79-42D4-B52D-36C937B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0FC-28DB-434E-8E7A-DE9B55BC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64C-57D0-4B7A-8564-76606ABA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55D2-27AA-4C0B-A4A0-C12E234196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293"/>
                </a:solidFill>
                <a:latin typeface="Book Antiqua"/>
              </a:rPr>
              <a:t>Holocaust Review Game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943600" y="1219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y the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ountry had the highest Jewish death tol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Germa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Po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191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457200"/>
            <a:ext cx="64771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is bo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Elie Wies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Primo L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Paul Stein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Wladyslaw Szpil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316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800600" cy="331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380988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i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 way to identify R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A way to identify J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A way to identify homosex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A way to identify the physically disabl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352680"/>
            <a:ext cx="8001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Nazi party member, owned Deutsche Emaillewaren-Fabrik and saved over 1,000 Jew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Victor Bod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Karl Plag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skar Schi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Raoul Wallenb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2359080" cy="287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190476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172200" y="228600"/>
            <a:ext cx="2284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114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Mordechai Rumkowski, leader of the Jewish administrative group in the Lodz Ghetto. What were these groups in every ghetto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Judenle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Judengru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Judenr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Judenregier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49604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ame did the Nazis add to every male Jew’s name in 1938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Yizh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Is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Jos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53316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zi answer to the "Jewish question in Europe" reached at Wannsee in 1942 was called……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286000"/>
            <a:ext cx="5639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he Fin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The Final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The Final El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The Final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5085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670536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Nazi concentration and extermination camps were located in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Wester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Souther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 The French-German B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Eastern 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57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228600"/>
            <a:ext cx="5715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three were extermination cam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Buchenwald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obibor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Dachau, Treblinka, Auschw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Drancy, Treblinka, Auschwit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3276720" cy="294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496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Joseph Goebb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erman G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Josef Meng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Reinhard Heydr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719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23:18:28Z</dcterms:created>
  <dc:creator>Student</dc:creator>
  <dc:description/>
  <dc:language>en-US</dc:language>
  <cp:lastModifiedBy>Student</cp:lastModifiedBy>
  <dcterms:modified xsi:type="dcterms:W3CDTF">2008-05-01T04:00:34Z</dcterms:modified>
  <cp:revision>3</cp:revision>
  <dc:subject/>
  <dc:title>Holocaust Review Game</dc:title>
</cp:coreProperties>
</file>